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18347"/>
        <c:axId val="11299978"/>
      </c:barChart>
      <c:catAx>
        <c:axId val="42318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99978"/>
        <c:crosses val="autoZero"/>
        <c:auto val="1"/>
        <c:lblAlgn val="ctr"/>
        <c:lblOffset val="100"/>
        <c:noMultiLvlLbl val="0"/>
      </c:catAx>
      <c:valAx>
        <c:axId val="11299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18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458-6254-4DFA-B46D-62863247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401-9E81-4618-B63E-496C249F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289-B71B-48EC-8CFD-F3DFC231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ABE-D137-4402-B654-83F0AE0A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BA2-07C7-4EB4-AE0A-3334A094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CFA-25E0-454B-8D2D-C68D7110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0B8-B0CA-4442-ACDB-EE426154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130-5318-4EAE-BA44-3D8C7D59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6BD-17C7-4AC1-872F-767FDA65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767-B852-4100-8686-48C7655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53D-5CDD-4C16-B735-325F08C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CED-9870-4656-8EC4-F57FA35F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EABFC-BC4A-4F02-A646-C291391C2F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