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21034"/>
        <c:axId val="16400652"/>
      </c:barChart>
      <c:catAx>
        <c:axId val="43621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0652"/>
        <c:crosses val="autoZero"/>
        <c:auto val="1"/>
        <c:lblAlgn val="ctr"/>
        <c:lblOffset val="100"/>
        <c:noMultiLvlLbl val="0"/>
      </c:catAx>
      <c:valAx>
        <c:axId val="16400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1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BB3-8A21-42D2-A589-DFA2D0CE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5A8-76B7-4230-B1C7-D762D9C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603-001D-4218-95A5-55A0E106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968-0BFA-4A27-9ACB-78CAE478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5EB-E853-4EEF-92D8-E29D7423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DA4-25EB-45AD-BF92-27E5098A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290-0E2E-4ACF-9EA9-5ACB95BE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7ED-61BB-4B9C-B9A7-7F91C557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0E0-7CDB-456F-A8A8-D09AD064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333-751C-4DD2-95E2-8FBF0A2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45B-7B67-4E8B-8B8B-A3B18D4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988-8293-4B2B-B634-182475F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FAA2-1DF2-4CCE-BD20-2716A82CB7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