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78766"/>
        <c:axId val="18691406"/>
      </c:barChart>
      <c:catAx>
        <c:axId val="90278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91406"/>
        <c:crosses val="autoZero"/>
        <c:auto val="1"/>
        <c:lblAlgn val="ctr"/>
        <c:lblOffset val="100"/>
        <c:noMultiLvlLbl val="0"/>
      </c:catAx>
      <c:valAx>
        <c:axId val="18691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78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37C-ADA5-44AA-8645-2F4FF9AD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872-7836-4C5A-A70F-7A0BA43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70B-444F-4D63-AAF5-285C2A78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192-7655-4D81-B3FD-2FCA6BF6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636-B268-4A18-9751-7FB620C2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432-4C6C-4045-96BD-8559F71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8A8-1B4E-4B9A-8CE8-FD16C5DC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ACA-C434-45E4-8154-CBE25D2E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320-9CDE-4C4E-9600-1B236E3B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507-6C9F-4E1F-9CA1-22B6C6F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BE6-87DC-4BDF-97BA-DC13CDF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F7A-750E-49BA-A51A-CDB388F1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4F672-D986-487C-BC83-6F554CFD7B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