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81374"/>
        <c:axId val="20402439"/>
      </c:barChart>
      <c:catAx>
        <c:axId val="76181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02439"/>
        <c:crosses val="autoZero"/>
        <c:auto val="1"/>
        <c:lblAlgn val="ctr"/>
        <c:lblOffset val="100"/>
        <c:noMultiLvlLbl val="0"/>
      </c:catAx>
      <c:valAx>
        <c:axId val="20402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81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16B-2D00-40A5-BA1C-986B649A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B478-BDB8-4A34-807E-E2AB5C30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B09-39A5-4C76-95ED-300C3F2C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2C9-FAE8-40E6-ABFE-D3A58BB9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30A-E03F-43DA-9071-D4EA40EA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58F-42A7-4494-A95A-BBA2123A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F8D-E9FB-45C4-8629-58E43A14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9F6-41AF-4B86-8588-44163CBA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F1F-8138-4CBD-8AE2-0816AD74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196A-5D09-401F-B043-7DBD624A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FC7-6BB5-427F-9BE9-4E87BAC6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B22-04B7-431A-A5FD-56F5E616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81E1F-3DA6-419E-A39C-52A1819EB1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